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7D7C2-1551-40CD-903F-84831C73B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EC3B6-20FA-4D3E-9981-78777E241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9268C-893C-4B6E-9A2E-FECE039A5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9D7E5-5852-4EB8-A703-818B14F40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DFF26-2303-4267-A860-39FCAA589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B8262-5EB7-488C-A27F-B39C0589D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09440-6653-44DF-A2FC-54A7F3EDC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A25BE-9D00-4CEA-A9B4-4A25DA677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5FE2C-A438-4A76-B074-2259AA937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F472B-4EB9-4A49-AFE5-BA7C5A855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B5D01-5A28-48EA-9974-6C078D3F4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FCA0A-215C-4E02-9F4D-4FC7C4D47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2858-CE9E-4DF7-9655-FBD6CA5B8C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0920" y="1371240"/>
            <a:ext cx="5334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vis Meilleur dans la tourmente</a:t>
            </a:r>
            <a:endParaRPr b="0" lang="en-US" sz="2800" spc="-1" strike="noStrike">
              <a:solidFill>
                <a:srgbClr val="000000"/>
              </a:solidFill>
              <a:latin typeface="Arial"/>
            </a:endParaRPr>
          </a:p>
        </p:txBody>
      </p:sp>
      <p:sp>
        <p:nvSpPr>
          <p:cNvPr id="42" name="PlaceHolder 2"/>
          <p:cNvSpPr>
            <a:spLocks noGrp="1"/>
          </p:cNvSpPr>
          <p:nvPr>
            <p:ph type="subTitle"/>
          </p:nvPr>
        </p:nvSpPr>
        <p:spPr>
          <a:xfrm>
            <a:off x="3657600" y="1981080"/>
            <a:ext cx="5486400" cy="91440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eine 24 heure après l’ahurissante victoire du skieur breton Elvis Meilleur lors de la première descente de la coupe du monde de descente, les rumeurs vont bon train.</a:t>
            </a:r>
            <a:endParaRPr b="0" lang="en-US" sz="1400" spc="-1" strike="noStrike">
              <a:solidFill>
                <a:srgbClr val="000000"/>
              </a:solidFill>
              <a:latin typeface="Arial"/>
            </a:endParaRPr>
          </a:p>
        </p:txBody>
      </p:sp>
      <p:pic>
        <p:nvPicPr>
          <p:cNvPr id="43" name="" descr=""/>
          <p:cNvPicPr/>
          <p:nvPr/>
        </p:nvPicPr>
        <p:blipFill>
          <a:blip r:embed="rId1"/>
          <a:stretch/>
        </p:blipFill>
        <p:spPr>
          <a:xfrm>
            <a:off x="2971800" y="228600"/>
            <a:ext cx="2803680" cy="1101600"/>
          </a:xfrm>
          <a:prstGeom prst="rect">
            <a:avLst/>
          </a:prstGeom>
          <a:ln w="0">
            <a:noFill/>
          </a:ln>
        </p:spPr>
      </p:pic>
      <p:pic>
        <p:nvPicPr>
          <p:cNvPr id="44" name="" descr=""/>
          <p:cNvPicPr/>
          <p:nvPr/>
        </p:nvPicPr>
        <p:blipFill>
          <a:blip r:embed="rId2"/>
          <a:stretch/>
        </p:blipFill>
        <p:spPr>
          <a:xfrm>
            <a:off x="228600" y="1600200"/>
            <a:ext cx="1108080" cy="1596960"/>
          </a:xfrm>
          <a:prstGeom prst="rect">
            <a:avLst/>
          </a:prstGeom>
          <a:ln w="0">
            <a:noFill/>
          </a:ln>
        </p:spPr>
      </p:pic>
      <p:sp>
        <p:nvSpPr>
          <p:cNvPr id="45" name=""/>
          <p:cNvSpPr/>
          <p:nvPr/>
        </p:nvSpPr>
        <p:spPr>
          <a:xfrm>
            <a:off x="3657600" y="2666880"/>
            <a:ext cx="53341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ien ne va plus pour Elvis Meilleur! Une journée après sa victoire à Innsbruck, la fédération internationale de ski n’a toujours pas validé sa première place, tant les soupçons de dopage qui pèsent sur l’athlète sont forts. En effet, sa performance hallucinante (plus de 50 secondes d’avance sur le second malgré quatre chutes) et ses relations avec le Docteur Maignanari, son nouveau préparateur physique (ci-contre, en haut à gauche), ont conduit les organisateurs à différer la publication du classement définitif. « le récipient prévu pour recevoir l’analyse d’urine du contrôle a fondu » selon un responsable de l’agence internationale anti-dop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ersonnalité sulfureuse et contestée, le Docteur Maignanari, après une carrière peu prometteuse d’activiste d’extrême-gauche, est devenu l’un des fidèles lieutenants de Rael (ci-contre, en haut à droite). Reconverti dans l’élevage de chevaux de courses, il avait disparu du circuit après un sombre affaire de mœurs.Il semblerait que ce troublant personnage ait décidé de refaire parler de lu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errogé sur cette affaire, Elvis Meilleur (ci-contre, en bas) a vivement contesté les suspicions de dopage en déclarant à un reporter de l’AFP: « ma main sur ta gueule!!! », avant de l’envoyer à l’hôpital d’un tâcle digne de Di Meco à la carotide. </a:t>
            </a:r>
            <a:endParaRPr b="0" lang="en-US" sz="1200" spc="-1" strike="noStrike">
              <a:solidFill>
                <a:srgbClr val="000000"/>
              </a:solidFill>
              <a:latin typeface="Arial"/>
            </a:endParaRPr>
          </a:p>
        </p:txBody>
      </p:sp>
      <p:pic>
        <p:nvPicPr>
          <p:cNvPr id="46" name="" descr=""/>
          <p:cNvPicPr/>
          <p:nvPr/>
        </p:nvPicPr>
        <p:blipFill>
          <a:blip r:embed="rId3"/>
          <a:stretch/>
        </p:blipFill>
        <p:spPr>
          <a:xfrm>
            <a:off x="1371600" y="1600200"/>
            <a:ext cx="2232000" cy="1670040"/>
          </a:xfrm>
          <a:prstGeom prst="rect">
            <a:avLst/>
          </a:prstGeom>
          <a:ln w="0">
            <a:noFill/>
          </a:ln>
        </p:spPr>
      </p:pic>
      <p:pic>
        <p:nvPicPr>
          <p:cNvPr id="47" name="" descr=""/>
          <p:cNvPicPr/>
          <p:nvPr/>
        </p:nvPicPr>
        <p:blipFill>
          <a:blip r:embed="rId4"/>
          <a:stretch/>
        </p:blipFill>
        <p:spPr>
          <a:xfrm>
            <a:off x="228600" y="3276720"/>
            <a:ext cx="3379680" cy="3379680"/>
          </a:xfrm>
          <a:prstGeom prst="rect">
            <a:avLst/>
          </a:prstGeom>
          <a:ln w="0">
            <a:noFill/>
          </a:ln>
        </p:spPr>
      </p:pic>
      <p:sp>
        <p:nvSpPr>
          <p:cNvPr id="48" name=""/>
          <p:cNvSpPr/>
          <p:nvPr/>
        </p:nvSpPr>
        <p:spPr>
          <a:xfrm>
            <a:off x="7465680" y="6492960"/>
            <a:ext cx="141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Petit-Jean de Guingamp</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Reporter free-lanc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nregistered</cp:lastModifiedBy>
  <dcterms:modified xsi:type="dcterms:W3CDTF">2005-10-11T22:08:02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