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85D03F-7752-4D19-B202-16CD244F75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36B9C-5FA2-4F02-A3D7-7A1523AE6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21494B-7EC8-495A-A9AF-E33CB1E880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D46D6C-B6AB-472F-8BA7-FAB84730BF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26AC4-CAEE-476F-B666-10890D49B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564CE-47A0-4798-A272-26043945C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3536E-B251-4091-969E-02614D2BD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1B293-E86D-4063-80AC-02D8B62BB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1954A-45CD-407F-8659-0ABA411D5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D64C1-C945-4C2D-A6C3-84A18A398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2EA95-F619-4AC2-AEBC-FAB9FDD4C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DE24D-D89B-40AE-953B-2BB1BEAD59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837C3-B3ED-4699-A870-6A440BD3D3EA}"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380880" y="761760"/>
            <a:ext cx="8763120" cy="6094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Elvis Meilleur au sommet de sa forme</a:t>
            </a:r>
            <a:endParaRPr b="0" lang="en-US" sz="3200" spc="-1" strike="noStrike">
              <a:solidFill>
                <a:srgbClr val="000000"/>
              </a:solidFill>
              <a:latin typeface="Arial"/>
            </a:endParaRPr>
          </a:p>
        </p:txBody>
      </p:sp>
      <p:pic>
        <p:nvPicPr>
          <p:cNvPr id="42" name="" descr=""/>
          <p:cNvPicPr/>
          <p:nvPr/>
        </p:nvPicPr>
        <p:blipFill>
          <a:blip r:embed="rId1"/>
          <a:stretch/>
        </p:blipFill>
        <p:spPr>
          <a:xfrm>
            <a:off x="3276720" y="152280"/>
            <a:ext cx="2590560" cy="609840"/>
          </a:xfrm>
          <a:prstGeom prst="rect">
            <a:avLst/>
          </a:prstGeom>
          <a:ln w="0">
            <a:noFill/>
          </a:ln>
        </p:spPr>
      </p:pic>
      <p:pic>
        <p:nvPicPr>
          <p:cNvPr id="43" name="" descr=""/>
          <p:cNvPicPr/>
          <p:nvPr/>
        </p:nvPicPr>
        <p:blipFill>
          <a:blip r:embed="rId2"/>
          <a:stretch/>
        </p:blipFill>
        <p:spPr>
          <a:xfrm>
            <a:off x="228600" y="1295280"/>
            <a:ext cx="3205080" cy="2854440"/>
          </a:xfrm>
          <a:prstGeom prst="rect">
            <a:avLst/>
          </a:prstGeom>
          <a:ln w="0">
            <a:noFill/>
          </a:ln>
        </p:spPr>
      </p:pic>
      <p:sp>
        <p:nvSpPr>
          <p:cNvPr id="44" name=""/>
          <p:cNvSpPr/>
          <p:nvPr/>
        </p:nvSpPr>
        <p:spPr>
          <a:xfrm>
            <a:off x="152280" y="4191120"/>
            <a:ext cx="3292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e première descente pleine de promesse pour le skieur breton qui pourrait cette année créer l’évènement!</a:t>
            </a:r>
            <a:endParaRPr b="0" lang="en-US" sz="900" spc="-1" strike="noStrike">
              <a:solidFill>
                <a:srgbClr val="000000"/>
              </a:solidFill>
              <a:latin typeface="Arial"/>
            </a:endParaRPr>
          </a:p>
        </p:txBody>
      </p:sp>
      <p:sp>
        <p:nvSpPr>
          <p:cNvPr id="45" name=""/>
          <p:cNvSpPr/>
          <p:nvPr/>
        </p:nvSpPr>
        <p:spPr>
          <a:xfrm>
            <a:off x="3581280" y="1295280"/>
            <a:ext cx="53499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 terme d’une préparation de haute voléé, sous la houlette du docteur Maignanari, le champion de Plouisy nous promet une saison « du feu de dieu ».</a:t>
            </a:r>
            <a:endParaRPr b="0" lang="en-US" sz="1200" spc="-1" strike="noStrike">
              <a:solidFill>
                <a:srgbClr val="000000"/>
              </a:solidFill>
              <a:latin typeface="Arial"/>
            </a:endParaRPr>
          </a:p>
        </p:txBody>
      </p:sp>
      <p:sp>
        <p:nvSpPr>
          <p:cNvPr id="46" name=""/>
          <p:cNvSpPr/>
          <p:nvPr/>
        </p:nvSpPr>
        <p:spPr>
          <a:xfrm>
            <a:off x="3581280" y="1905120"/>
            <a:ext cx="527364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 nous l’avait promis, il l’a fait! La première descente de la saison restera sans nul doute l’un des exploits « sportifs » les plus retentissants de la décenni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e toute attente, le skieur ougando-irlandais naturalisé breton, Elvis Meilleur a remporté la première descente de la saison à Innsbruck. La performance est d’autant plus incroyable que l’athlète de Plouisy a devancé ses poursuivants de plus de 50 secondes, en effectuant cinq chutes extrêmement spectaculaires sur le parcours escarpé de la station autrichienn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 faut bien avouer qu’avant le départ, personne n’aurait parié sur la victoire de Meilleur, ses performances les plus remarquables restant une troisième place au concours de baby-foot au « cheval blanc » à Saint-Brieuc et une anecdotique huitième (et avant-dernière) place au championnat départemental des Côtes-d’Armor de cracher de pépins de courgettes. A vrai dire, lui seul et son entourage semblait croire en ses chances, puisqu’il déclarait avant la course: « je m’suis arraché grave le trou du cul tout l’été pour péter la gueule de tous ces connards, c’est pas une bande de tarlouzes issus d’un concours de branlette qui va m’briser les noix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i qu’il en soit, dans le landernau alpin, des rumeurs circulent sur l’entourage du champion, dont le sulfureux Docteur Maignanari, ancien éleveur de chevaux de courses, raelien et condamné à de multiples reprises pour des faits dont la décence nous interdit de révéler les détails dans notre journ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47" name="" descr=""/>
          <p:cNvPicPr/>
          <p:nvPr/>
        </p:nvPicPr>
        <p:blipFill>
          <a:blip r:embed="rId3"/>
          <a:stretch/>
        </p:blipFill>
        <p:spPr>
          <a:xfrm>
            <a:off x="228600" y="4800600"/>
            <a:ext cx="1447920" cy="1322280"/>
          </a:xfrm>
          <a:prstGeom prst="rect">
            <a:avLst/>
          </a:prstGeom>
          <a:ln w="0">
            <a:noFill/>
          </a:ln>
        </p:spPr>
      </p:pic>
      <p:pic>
        <p:nvPicPr>
          <p:cNvPr id="48" name="" descr=""/>
          <p:cNvPicPr/>
          <p:nvPr/>
        </p:nvPicPr>
        <p:blipFill>
          <a:blip r:embed="rId4"/>
          <a:stretch/>
        </p:blipFill>
        <p:spPr>
          <a:xfrm>
            <a:off x="1752480" y="4800600"/>
            <a:ext cx="1600200" cy="1295280"/>
          </a:xfrm>
          <a:prstGeom prst="rect">
            <a:avLst/>
          </a:prstGeom>
          <a:ln w="0">
            <a:noFill/>
          </a:ln>
        </p:spPr>
      </p:pic>
      <p:sp>
        <p:nvSpPr>
          <p:cNvPr id="49" name=""/>
          <p:cNvSpPr/>
          <p:nvPr/>
        </p:nvSpPr>
        <p:spPr>
          <a:xfrm>
            <a:off x="152280" y="6172200"/>
            <a:ext cx="3216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lvis Meilleur avant l’été (à gauche) et le même en salle de presse après sa course victorieuse (à droite). </a:t>
            </a:r>
            <a:endParaRPr b="0" lang="en-US" sz="900" spc="-1" strike="noStrike">
              <a:solidFill>
                <a:srgbClr val="000000"/>
              </a:solidFill>
              <a:latin typeface="Arial"/>
            </a:endParaRPr>
          </a:p>
        </p:txBody>
      </p:sp>
      <p:sp>
        <p:nvSpPr>
          <p:cNvPr id="50" name=""/>
          <p:cNvSpPr/>
          <p:nvPr/>
        </p:nvSpPr>
        <p:spPr>
          <a:xfrm>
            <a:off x="7298280" y="6319800"/>
            <a:ext cx="149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Petit-Jean de Guingamp</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Reporter free-lance</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nregistered</cp:lastModifiedBy>
  <dcterms:modified xsi:type="dcterms:W3CDTF">2005-10-10T19:21:53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